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B43B-08C3-4151-900E-42BEB326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DBC2-D2C1-4DC2-903A-FA09A25A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5AD3-BC47-4687-9594-33C31078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3B4-F40B-4F03-8A1B-340C0856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3C7-33CA-4285-A956-C7589FE8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59F7-D12C-4F60-B51C-5F482D11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8EF5-A0E7-4C96-B4E3-B1C67D69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15E9-42E9-4D52-88A4-9CEB9853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440F-1167-4925-80D7-69816EA9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D683-F2F7-43E4-8782-AACBCA99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8433-B579-455A-9B54-6FA29001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3CAC-467E-4DBF-99B7-31F416AB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2B4F-276D-4788-B752-40CA588A19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04240" y="228240"/>
            <a:ext cx="3435840" cy="642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六单元  碳和碳的氧化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2286000"/>
            <a:ext cx="6629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验活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氧化碳的实验室制取与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1143000"/>
            <a:ext cx="7848720" cy="43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二、进行实验、收集证据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动手操作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制取并检验和收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熄灭燃着的阶梯蜡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塑料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证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于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探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否与水反应。是什么粒子使石蕊变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证明碳酸不稳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grayscl/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1963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三、解释或讨论、反思与评价、表达与交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小组汇报实验结果、存在问题教师点拨）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952880" y="3581280"/>
            <a:ext cx="34290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47920" y="2358720"/>
            <a:ext cx="685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实验活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氧化碳的实验室制取与性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实验室制取二氧化碳的原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实验装置的确定和实验步骤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验证二氧化碳的性质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81280" y="152280"/>
            <a:ext cx="205740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板书设计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380880" y="2514600"/>
            <a:ext cx="31244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47920" y="2819520"/>
            <a:ext cx="7696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室制取二氧化碳的反应原理和操作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447920"/>
            <a:ext cx="22100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教学重难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6212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1377000"/>
            <a:ext cx="80010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一、针对问题、猜想与假设、制订计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小组合作交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实验室用什么药品制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？反应物的状态？反应方程式？能否用浓盐酸或稀硫酸代替稀盐酸制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实验室制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什么仪器？如何检查装置的气密性？先加固体还是先加酸液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0" y="838080"/>
            <a:ext cx="4343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制取二氧化碳的装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212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480" y="1424160"/>
            <a:ext cx="8001000" cy="29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什么方法收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何检验制得的气体是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？怎样验满？此法利用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什么性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212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9480" y="1454760"/>
            <a:ext cx="8001000" cy="224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倒入内有燃着的阶梯蜡烛的烧杯中，会看到什么现象？说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什么收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不用排水法？如何证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于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209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724640" cy="4724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914400" y="533520"/>
            <a:ext cx="4419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问题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5</a:t>
            </a: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实验演示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212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1108800"/>
            <a:ext cx="8001000" cy="353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7.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于水会不会跟水反应？如何证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跟水反应？碳酸稳定吗？用实验证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方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方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方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方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什么粒子使石蕊变红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还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2514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31240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657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41911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458200" cy="3160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838080" y="838080"/>
            <a:ext cx="4648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二氧化碳与水的反应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alin</cp:lastModifiedBy>
  <dcterms:modified xsi:type="dcterms:W3CDTF">2015-03-26T05:06:18Z</dcterms:modified>
  <cp:revision>2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